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4F2B-273F-4D3C-B160-FD1AC7756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E1C-416A-421E-A12E-55BD9C5C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4614-C64E-4AB1-A72F-14EE22DD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C77-3272-4836-BDAB-30B0AB1D8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C7C9-63AE-4662-8B41-6AC2962C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D7A1-97F1-4261-870D-94A45311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1A6B-301D-46D9-AC75-E14CD86A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9A8C-407B-4E64-88E6-06C22DC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3440-B84E-49FA-9790-5E674BAC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7272-ADA8-4DB6-BF5C-0428B623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65782-0EC8-4EC0-8C13-2746B17C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8047-4807-4624-9EE9-D47572FF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D444-F357-493C-A89A-AF01F468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392E-6986-4E82-AE8E-F2E1A93C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52FB-48DE-470C-80EA-04501AF6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4566-5FB1-45C6-9331-F0857E91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BC52-9F4C-44B7-836D-D3455205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3E136-316B-4CEA-BF23-6DAA6992C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E374-7319-466D-88C5-051D630B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9C205-2672-4CE6-9D6F-572507BD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C5A3B-6D5B-4512-BE67-5E29024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02711-3E31-4686-9374-4E872E96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772-242A-468C-A8A2-92576A23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34580-AC3C-4B8F-B3E6-E7E84FBA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16A4C-EE2C-4E24-BB55-586467EF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ACA2-7800-4A7F-97EE-CD4D93D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A2C37-2937-407B-A155-429838BF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2E0236-2F8F-48E7-8163-AE26F6ADA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A5FD8-FE53-4FB5-A04C-BBB32E44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032E8-0623-4890-9431-C0D725499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C1D05-E878-478D-A0B2-BA0894436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85685-164D-4908-B8A5-CDB0E674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6FD8D-1511-42D9-8753-139E1F3B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2617-830A-4F0D-8B49-C7E1C6B6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AB5CF-DAF3-4527-9A7A-B76070DC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D69AA-F5A3-456B-B127-80F4011E2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D117D-A388-401F-B65A-7E56549D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AEC4C-B0B6-4D2B-B3BF-26955972A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5BBB1-BE20-44BD-8E1D-4E0B2183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FD68-6824-45FF-984E-D898B101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DC1DC-67D4-4302-9FD9-FC3B82E8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B035B-0317-406B-9A8A-F455CD7D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780C6-3E86-408E-8DD2-09A3B187F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E9EFC-7839-4883-BAEE-9E16929F0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005-3C1C-438E-A1D7-1D4E85AA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EB46E-DA00-43CF-AAB0-3A6C5CB4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B782F-A966-4042-B1D4-FE5DE259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E2FC-B0DE-4CE2-9468-E597274B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16B30-5644-42A3-A8A1-603DCE3B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3333-6137-4243-9C83-014CBC26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A2FAE-0B58-4642-A28E-002BADBE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8E63A-1BE1-41B5-92C5-BCA09C08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90EFD-0890-4C4C-A663-81FACF5F8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21D3F-43E7-47AF-B1D9-BAA1A380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40EE-8E01-4CC3-992B-B534B8C6D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7B7B-0068-47D1-BDEF-3AC35191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0178B-D5D4-4F65-9478-121B615A8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ECC2D-4D42-483E-AC27-95D7DE9E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1C382-A510-4709-9D7B-3BFE5DDB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CF296-AE3F-4B2B-934D-7D870AEB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F5B30-272F-4152-BBB8-0A80007F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C9945-BB2F-4543-8399-C369CE93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34773-BCF6-4866-815B-17FEF3EDD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443EF0-A37D-4C1C-9F88-D2EA5CAE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3EDDF-6AB8-4CBB-A68F-E8F62F3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0B29-F8E5-4230-9ED9-4B0CA372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B4F-27A6-4C41-B1FF-B07D141D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0D16F-ABF2-490D-9162-A44883F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6D8C7-0749-43E5-9E45-B698DB54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3D61D-63E9-4DDD-A2C9-49091ECAB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7EEF3-A890-4E1F-881E-CF36ADF1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BEA70-4C09-4CC9-9064-E28A8DBE2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9B0EE-FEA9-44C8-A260-094330D4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774B-0D68-4ACD-9F4A-5815D8B5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B5650-C828-4339-842F-C7DDF1F6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E3FE8-D9B8-4569-86EB-E7962AE1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62BDF-AE94-49BF-921D-B1ED1A2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FFE9-CAFD-41C9-BDD8-A40EF0E7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3545-9EFA-4A29-9C53-B1D2C5E8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02474-7904-4BEA-9444-B568D32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D4A6F5-D6A6-4D5D-969D-067B58DE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1E212F-F195-4F56-BC67-F6C60776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BABAA-A9A6-41C2-96FE-5C7DF1B3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C6B-603B-4567-895B-9869FF14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61ED-8831-4D8D-93C9-B2DD5FC952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7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99C9-DFE2-4C87-98C4-E765103983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3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9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D2C-1419-4B2F-8205-721C6226A7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0D76-0129-40EF-BFAB-12D765C7301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3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5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27FA9-5439-401C-B1BC-33216E42C5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2219-F043-4BF5-BCFD-2C2D0B6D39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7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8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FF6A-F8E1-4B95-83C7-330B50D54D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0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orbel"/>
              </a:rPr>
              <a:t>Презентация по физической культуре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85560" y="3857760"/>
            <a:ext cx="7553160" cy="13572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Кукушкина Ольга, 4б класс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МОУ «Средняя общеобразовательная школа № 10 г. Йошкар-Олы»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4714920" y="6143760"/>
            <a:ext cx="11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08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1142640" y="285840"/>
            <a:ext cx="765828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Соревнова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оревнования по футболу, как и в любом другом виде спорта — важная составляющая игры. Соревнование организуется федерацией, для каждого турнира составляется регламент, в котором обычно определяют состав участников, схему турнира, правила определения победителя при равенстве очков и какие-то отклонения от правил, например количество замен. Соревнования делятся на внутренние и международные, которые в свою очередь разделяются на клубные и национальных сборных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Рисунок 3" descr="1213786688_26631.jpg"/>
          <p:cNvPicPr/>
          <p:nvPr/>
        </p:nvPicPr>
        <p:blipFill>
          <a:blip r:embed="rId1"/>
          <a:stretch/>
        </p:blipFill>
        <p:spPr>
          <a:xfrm>
            <a:off x="2786040" y="2786040"/>
            <a:ext cx="43783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071360" y="285840"/>
            <a:ext cx="772956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Разновидности футбол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множество разновидностей футбола, в основном с меньшим количеством игроков — в том числе пляжный футбол (играется на песке), футзал (AMF) и футзал (FIFA) (мини-футбол) (играются в зале на специальном покрытии), дворовый футбол (играется на любом покрытии на полях любого размера любым количеством людей), болотный футбол (играется на болоте), футбольный фристайл (заключается в исполнении всевозможных финтов и трюков)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Поскольку популярность футбола очень высока существует много игр, имитирующих футбо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3" name="Рисунок 3" descr="1213786684_16606.jpg"/>
          <p:cNvPicPr/>
          <p:nvPr/>
        </p:nvPicPr>
        <p:blipFill>
          <a:blip r:embed="rId1"/>
          <a:stretch/>
        </p:blipFill>
        <p:spPr>
          <a:xfrm>
            <a:off x="3786120" y="3071880"/>
            <a:ext cx="2495520" cy="34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Прямоугольник 3" descr=""/>
          <p:cNvPicPr/>
          <p:nvPr/>
        </p:nvPicPr>
        <p:blipFill>
          <a:blip r:embed="rId1"/>
          <a:stretch/>
        </p:blipFill>
        <p:spPr>
          <a:xfrm>
            <a:off x="2494080" y="30240"/>
            <a:ext cx="4632120" cy="14637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4904923b_3.jpg"/>
          <p:cNvPicPr/>
          <p:nvPr/>
        </p:nvPicPr>
        <p:blipFill>
          <a:blip r:embed="rId2"/>
          <a:stretch/>
        </p:blipFill>
        <p:spPr>
          <a:xfrm>
            <a:off x="1643040" y="1857240"/>
            <a:ext cx="6875640" cy="39290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solidFill>
            <a:srgbClr val="d9d9d9"/>
          </a:solidFill>
          <a:ln w="9360">
            <a:solidFill>
              <a:srgbClr val="feb80a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История футбол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428480" y="1447920"/>
            <a:ext cx="7505640" cy="119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Игры, похожие на современный футбол, существовали достаточно давно у разных народов, однако первые записанные правила датированы 1848 годом. Датой рождения футбола считается 1863 год, когда была организована первая федерация футбола и записаны правила,  похожие на современны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5" name="Рисунок 3" descr="object_45.1214081933.jpg"/>
          <p:cNvPicPr/>
          <p:nvPr/>
        </p:nvPicPr>
        <p:blipFill>
          <a:blip r:embed="rId1"/>
          <a:stretch/>
        </p:blipFill>
        <p:spPr>
          <a:xfrm>
            <a:off x="2000160" y="2714760"/>
            <a:ext cx="2562480" cy="378936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213836825_56664.jpg"/>
          <p:cNvPicPr/>
          <p:nvPr/>
        </p:nvPicPr>
        <p:blipFill>
          <a:blip r:embed="rId2"/>
          <a:stretch/>
        </p:blipFill>
        <p:spPr>
          <a:xfrm>
            <a:off x="5764320" y="2714760"/>
            <a:ext cx="25938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85920" y="500040"/>
            <a:ext cx="7400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Игровой процесс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071360" y="1599840"/>
            <a:ext cx="761508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тдельная футбольная игра называется — матч, который в свою очередь состоит из двух таймов по 45 минут. Пауза между первым и вторым таймами составляет 15 минут, в течение которой команды отдыхают, а по её окончании меняются воротами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Рисунок 3" descr="104901.jpg"/>
          <p:cNvPicPr/>
          <p:nvPr/>
        </p:nvPicPr>
        <p:blipFill>
          <a:blip r:embed="rId1"/>
          <a:stretch/>
        </p:blipFill>
        <p:spPr>
          <a:xfrm>
            <a:off x="2214720" y="3214800"/>
            <a:ext cx="4572000" cy="30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3920" y="142920"/>
            <a:ext cx="747252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orbel"/>
              </a:rPr>
              <a:t>В футбол играют на поле с травяным или синтетическим покрытием. В игре участвуют две команды: в каждой от 7 до 11 человек. Один человек в команде (вратарь) может играть руками в штрафной площади у своих ворот, его основной задачей является защита ворот. Остальные игроки также имеют свои задачи и позиции на поле. Защитники располагаются в основном на своей половине поля, их задача — противодействовать нападающим игрокам противоположной команды. Полузащитники действуют в середине поля, их роль — помогать защитникам или нападающим в зависимости от игровой ситуации. Нападающие располагаются, преимущественно на половине поля соперника, основная задача — забивать голы.</a:t>
            </a:r>
            <a:endParaRPr b="0" lang="en-US" sz="17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3" descr="4904923b_3.jpg"/>
          <p:cNvPicPr/>
          <p:nvPr/>
        </p:nvPicPr>
        <p:blipFill>
          <a:blip r:embed="rId1"/>
          <a:stretch/>
        </p:blipFill>
        <p:spPr>
          <a:xfrm>
            <a:off x="2214720" y="3071880"/>
            <a:ext cx="60721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071720" y="213840"/>
            <a:ext cx="785808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ль игры — забить мяч в ворота противника, сделать это как можно большее количество раз и постараться не допустить гола в свои ворота. Матч выигрывает команда, забившая большее количество голов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В случае, если в течение двух таймов команды забили одинаковое количество голов, то или фиксируется ничья или победитель выявляется согласно установленному регламенту матча. В этом случае может быть назначено дополнительное время - ещё два тайма по 15 минут каждый. Как правило, между основным и дополнительным временем матча командам предоставляется перерыв. Между дополнительными таймами командам даётся лишь время на смену сторон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3" descr="1213836840_40613.jpg"/>
          <p:cNvPicPr/>
          <p:nvPr/>
        </p:nvPicPr>
        <p:blipFill>
          <a:blip r:embed="rId1"/>
          <a:stretch/>
        </p:blipFill>
        <p:spPr>
          <a:xfrm>
            <a:off x="2500200" y="3000240"/>
            <a:ext cx="5005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1000080" y="213840"/>
            <a:ext cx="768672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Одно время в футболе существовало правило, по которому победителем объявлялась команда, первой забившая гол (правило «золотого гола») или выигрывавшая по окончании любого из дополнительных таймов (правило «серебряного гола»). В настоящий момент дополнительное время либо не играется вовсе, либо играется в полном объёме (2 тайма по 15 минут). Если в течение дополнительного времени победителя выявить не удаётся, проводится серия послематчевых пенальти, не являющихся частью матча. Серия ведётся до тех пор, пока не будет выявлен победитель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5" name="Рисунок 3" descr="1214087928_76361.jpg"/>
          <p:cNvPicPr/>
          <p:nvPr/>
        </p:nvPicPr>
        <p:blipFill>
          <a:blip r:embed="rId1"/>
          <a:stretch/>
        </p:blipFill>
        <p:spPr>
          <a:xfrm>
            <a:off x="3429000" y="2571840"/>
            <a:ext cx="3000240" cy="38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1143000" y="214200"/>
            <a:ext cx="75153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orbel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Существует ряд организаций, осуществляющих контроль, управление и распространение футбола. Основной является ФИФА, расположенная в Цюрихе, Швейцария. Она занимается организацией международных соревнований мирового масштаба, в частности чемпионата мира. Далее идут континентальные организации и организации по странам, областям и городам и т. д. У каждой имеются обязанности по организации соответствующих футбольных соревнований, контролю за деятельностью входящих в них клубов, распространением и популяризацией футбола в регионе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3" descr="1214305948_03297.jpg"/>
          <p:cNvPicPr/>
          <p:nvPr/>
        </p:nvPicPr>
        <p:blipFill>
          <a:blip r:embed="rId1"/>
          <a:stretch/>
        </p:blipFill>
        <p:spPr>
          <a:xfrm>
            <a:off x="3429000" y="2786040"/>
            <a:ext cx="28684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071360" y="285840"/>
            <a:ext cx="780084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c00000"/>
                </a:solidFill>
                <a:latin typeface="Corbel"/>
              </a:rPr>
              <a:t>Клубы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Футбольный клуб — базовая ячейка всей футбольной структуры. Он является связующим звеном между футболистами, персоналом и организациями. По сути это команда футболистов, входящая в одну из организаций, имеющая определённую инфраструктуру и обслуживающий персонал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Рисунок 3" descr="1214088103_23001.jpg"/>
          <p:cNvPicPr/>
          <p:nvPr/>
        </p:nvPicPr>
        <p:blipFill>
          <a:blip r:embed="rId1"/>
          <a:stretch/>
        </p:blipFill>
        <p:spPr>
          <a:xfrm>
            <a:off x="1928880" y="2714760"/>
            <a:ext cx="4876560" cy="387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17:45:03Z</dcterms:created>
  <dc:creator>Admin</dc:creator>
  <dc:description/>
  <dc:language>en-US</dc:language>
  <cp:lastModifiedBy>Ирина Петровна</cp:lastModifiedBy>
  <dcterms:modified xsi:type="dcterms:W3CDTF">2009-08-17T15:14:05Z</dcterms:modified>
  <cp:revision>9</cp:revision>
  <dc:subject/>
  <dc:title>Слайд 1</dc:title>
</cp:coreProperties>
</file>